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AB2-3B94-4719-AFD2-D3FA39A1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CD0-0FEB-4395-A93C-E15E2A4B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DA7-4BA2-4A4D-8D47-562B8E7A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FAD-20A5-4594-91C2-826E13FC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20BD-B010-4ADA-A53F-C338A54A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186C-6773-473F-977F-0DBB43CF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F1DF-48B2-458A-ADF6-F511BF4E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F560-AC62-4AC6-B204-7F1D3060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E99A-203C-493D-802E-79B5D4F1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F48F-D1C3-40E6-BE2B-E955E07D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1B6B-0148-49C6-A4F4-257E469E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199-0DEA-4C0B-A0BE-7310A24D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26EF-CF79-4874-8F5A-96D6EBD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3663-5A8D-4467-B209-6C3356CD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2FDD-E77C-459B-BC4C-C465C58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3146-340A-4E72-88E0-30D8EE3D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4214-1E44-482B-8CB2-D7224454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A81C-ABA2-4460-9018-62DBE175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C70D-4398-45D5-BA81-8372864F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D1AF9-18E7-4D4F-B3AA-3D5D73EB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FC43-D476-441E-A90C-A70DB111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F872-5176-4245-B01D-2A16F7CA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C06-8D0B-4CD4-A40E-58D84E9D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3CE8-9589-45F2-BE23-032602AA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0D15-E847-4B1A-BFF4-12A5EFE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1CFC-6073-42A0-8F42-6D5BA901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BAA6-34E4-48E0-9356-BE0FFDC1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D5A4-BEC3-4C0A-8407-E319F2E1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EAA2-F9E9-49CA-8618-CD344C57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FC7B-0F43-4D10-976E-651BC7C7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77312-7476-4C3C-8B70-BE91D7D3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1B46F-9FD7-4E1F-A97A-9CCE5FBC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FC85-4ADF-497B-9A3C-6642F0F4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F2F-4FCE-45E1-9FE5-A5F98EBF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438BE-9411-408F-B385-8DDD1EF1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6E560-0F98-4E5E-B988-948700A3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467C7-4093-46A2-B6C2-3EDB7141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A453-0E44-490C-9702-CFDB91BA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BCC0-E266-4F8C-8EF5-72F79CC1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A014E-648B-46A5-88CA-9D68B512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C8FC-AC23-4F3E-96C0-B4B4B303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FD127-CC1E-4B49-974D-F93DA079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978E-C2E1-4DB1-BDF3-2E05F78E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B3671-12D5-4A8C-AA30-35817045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31D-58C5-4900-AFCC-3BE04404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51C8-BD85-481A-95C6-823792FE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A8F29-C9A2-49B7-89E8-A43F07D0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09B63-FBA1-40D6-B2C1-60CE321F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9555F-CF7E-419A-BE30-F8BE74E8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E1D75-4D79-4845-B750-FA8E2CE7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0C71-D072-4CA2-A630-BBF5DFA1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98F7C-40BC-4E5D-9E1F-556FC6D3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BAD6D-1585-4B16-B1E9-70E1908B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CA810-DEB1-4BC1-9C25-133702E6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A4BDB-3C1F-4A1C-B7FB-508D2C08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C4A-E6CF-4769-B968-422A692E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903FC-69ED-4A9E-AA44-9BA10029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63A9-B2F5-453D-82C4-2C552DE1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5416B-30B5-4C67-B203-D4D1FBEC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9E74C-0057-49DA-B55A-19046B15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77BDB-3AC3-419C-ABAC-DA93F733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7E6B6-8A8D-4386-A797-18D63B0C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823EF-EC2C-4687-B53E-036C3793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6D04-694C-4128-971E-36B0F7BB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32C89-9A1A-42D6-8C00-A517C95E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6A676-9710-4A11-B1EF-C19C110B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8F5-5CDD-4258-85DF-6DECA7BA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436B1-FE38-4204-BB32-9044D660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AFCD1-2719-45E9-8700-AADBC533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7CDD1-7DD7-4611-8980-D76A5B29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9221D-6960-4DEC-8426-E8E57E09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1C80A-DE32-4E0F-9565-1F82E0EE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2FA1D-03ED-4713-BC3E-2E475F8D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1AE53-E9EF-4991-A948-7B04B2BD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15C5D-7A67-44B6-B2D8-D979C35A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D2CA7-DED0-4355-8603-EC4A941B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C7472-FD6E-412F-9354-C4B86F69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8ED-096C-4E8D-B20E-4D070C8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2343A-8818-4ED7-94F1-92CF143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6809B-B39B-4B5B-A7B0-B5342BE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84385-BB82-4559-9C29-26F8F02C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094BB-52CD-4E40-BC24-DB3E332C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3C06B-2C0F-42BF-8B3A-4A0D1779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295-EFB7-4BF3-96A4-0E7B4DB0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8C9C-A2E7-4057-955F-46134CF6E5B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5808-7263-4CFE-897F-D855963BBAF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F5FA-521D-40B2-8DAC-86DA7BC8A2E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4AE4-C1C1-4E08-A541-FCD6DEC315E1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3F0F-3152-478F-A96C-70CF03E0C40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699D-545C-438A-9F03-118C8EBE43A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E288-8370-48FF-8FF3-8EA4BCAEDA9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450720" y="2077920"/>
            <a:ext cx="8315280" cy="19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03360" y="603360"/>
            <a:ext cx="8040600" cy="1481040"/>
          </a:xfrm>
          <a:prstGeom prst="rect">
            <a:avLst/>
          </a:prstGeom>
          <a:ln w="0">
            <a:noFill/>
          </a:ln>
        </p:spPr>
      </p:pic>
      <p:pic>
        <p:nvPicPr>
          <p:cNvPr id="304" name="Subtitle 2" descr=""/>
          <p:cNvPicPr/>
          <p:nvPr/>
        </p:nvPicPr>
        <p:blipFill>
          <a:blip r:embed="rId2"/>
          <a:stretch/>
        </p:blipFill>
        <p:spPr>
          <a:xfrm>
            <a:off x="1279440" y="1731960"/>
            <a:ext cx="6658200" cy="198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Content Placeholder 2"/>
          <p:cNvGrpSpPr/>
          <p:nvPr/>
        </p:nvGrpSpPr>
        <p:grpSpPr>
          <a:xfrm>
            <a:off x="365040" y="0"/>
            <a:ext cx="8431200" cy="6102360"/>
            <a:chOff x="365040" y="0"/>
            <a:chExt cx="8431200" cy="6102360"/>
          </a:xfrm>
        </p:grpSpPr>
        <p:pic>
          <p:nvPicPr>
            <p:cNvPr id="30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65040" y="0"/>
              <a:ext cx="8431200" cy="61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457200" y="228600"/>
              <a:ext cx="8229600" cy="58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M1 – Sum of all coins and paper currency in circulation, plus certain checkable balances (deposits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M2 – Sum of all other types of wealt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Liquidity – how fast you can convert assets to cas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Fractional reserve banking – system which bankers keep only a fraction of the funds they hold on deposit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Required Reserves – minimum amount of cash required by law (held in reserves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Asset – Item of value that an individual or firm own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Liability – debts, credit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Excess reserves – any reserves held in excess of legal minimum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09" name="Content Placeholder 2"/>
          <p:cNvGrpSpPr/>
          <p:nvPr/>
        </p:nvGrpSpPr>
        <p:grpSpPr>
          <a:xfrm>
            <a:off x="365040" y="1670040"/>
            <a:ext cx="8589960" cy="4840200"/>
            <a:chOff x="365040" y="1670040"/>
            <a:chExt cx="8589960" cy="4840200"/>
          </a:xfrm>
        </p:grpSpPr>
        <p:pic>
          <p:nvPicPr>
            <p:cNvPr id="31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365040" y="1670040"/>
              <a:ext cx="8589960" cy="48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57200" y="18828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382680">
                <a:lnSpc>
                  <a:spcPct val="9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entury Gothic"/>
                </a:rPr>
                <a:t>Medium of exchange is more efficient than bartering (double coincidence of wants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9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entury Gothic"/>
                </a:rPr>
                <a:t>Money today is pure fiat money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9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entury Gothic"/>
                </a:rPr>
                <a:t>Throughout history, all sorts of things have served as money. Commodity money gave way to full-bodied paper money. Usually backed by some sort of commodity, such as gold. This in turn led to partially backed and eventually fiat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13" name="Subtitle 2" descr=""/>
          <p:cNvPicPr/>
          <p:nvPr/>
        </p:nvPicPr>
        <p:blipFill>
          <a:blip r:embed="rId2"/>
          <a:stretch/>
        </p:blipFill>
        <p:spPr>
          <a:xfrm>
            <a:off x="457200" y="2077920"/>
            <a:ext cx="8290080" cy="1957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15" name="Content Placeholder 2"/>
          <p:cNvGrpSpPr/>
          <p:nvPr/>
        </p:nvGrpSpPr>
        <p:grpSpPr>
          <a:xfrm>
            <a:off x="371520" y="1712880"/>
            <a:ext cx="8364600" cy="4773600"/>
            <a:chOff x="371520" y="1712880"/>
            <a:chExt cx="8364600" cy="4773600"/>
          </a:xfrm>
        </p:grpSpPr>
        <p:pic>
          <p:nvPicPr>
            <p:cNvPr id="31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371520" y="1712880"/>
              <a:ext cx="836460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57200" y="18828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Central Bank: a bank for banks, the FED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Fed run by governors appointed by the President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Fed controls money supply by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822240" indent="-285840">
                <a:lnSpc>
                  <a:spcPct val="100000"/>
                </a:lnSpc>
                <a:spcBef>
                  <a:spcPts val="649"/>
                </a:spcBef>
                <a:buClr>
                  <a:srgbClr val="ff388c"/>
                </a:buClr>
                <a:buSzPct val="95000"/>
                <a:buFont typeface="Verdana"/>
                <a:buChar char="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Open-market op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822240" indent="-285840">
                <a:lnSpc>
                  <a:spcPct val="100000"/>
                </a:lnSpc>
                <a:spcBef>
                  <a:spcPts val="649"/>
                </a:spcBef>
                <a:buClr>
                  <a:srgbClr val="ff388c"/>
                </a:buClr>
                <a:buSzPct val="95000"/>
                <a:buFont typeface="Verdana"/>
                <a:buChar char="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Fed Fund Rate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822240" indent="-285840">
                <a:lnSpc>
                  <a:spcPct val="100000"/>
                </a:lnSpc>
                <a:spcBef>
                  <a:spcPts val="649"/>
                </a:spcBef>
                <a:buClr>
                  <a:srgbClr val="ff388c"/>
                </a:buClr>
                <a:buSzPct val="95000"/>
                <a:buFont typeface="Verdana"/>
                <a:buChar char="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Discount Rate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822240" indent="-285840">
                <a:lnSpc>
                  <a:spcPct val="100000"/>
                </a:lnSpc>
                <a:spcBef>
                  <a:spcPts val="649"/>
                </a:spcBef>
                <a:buClr>
                  <a:srgbClr val="ff388c"/>
                </a:buClr>
                <a:buSzPct val="95000"/>
                <a:buFont typeface="Verdana"/>
                <a:buChar char="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Reserve Requirements: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541000" cy="1547640"/>
          </a:xfrm>
          <a:prstGeom prst="rect">
            <a:avLst/>
          </a:prstGeom>
          <a:ln w="0">
            <a:noFill/>
          </a:ln>
        </p:spPr>
      </p:pic>
      <p:grpSp>
        <p:nvGrpSpPr>
          <p:cNvPr id="319" name="Content Placeholder 2"/>
          <p:cNvGrpSpPr/>
          <p:nvPr/>
        </p:nvGrpSpPr>
        <p:grpSpPr>
          <a:xfrm>
            <a:off x="371520" y="1712880"/>
            <a:ext cx="8516880" cy="4773600"/>
            <a:chOff x="371520" y="1712880"/>
            <a:chExt cx="8516880" cy="4773600"/>
          </a:xfrm>
        </p:grpSpPr>
        <p:pic>
          <p:nvPicPr>
            <p:cNvPr id="32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371520" y="1712880"/>
              <a:ext cx="851688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57200" y="18828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Open-market ops: Fed buys or sells bonds on open-market to increase or decrease money supply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Discount Rate: Is the interest rate the Fed sets on loans that it makes to banks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Fed Funds Rate: Banks lend to one another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Reserve Requirements: % of total deposits that must be held in reserves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23" name="Content Placeholder 2"/>
          <p:cNvGrpSpPr/>
          <p:nvPr/>
        </p:nvGrpSpPr>
        <p:grpSpPr>
          <a:xfrm>
            <a:off x="371520" y="1657440"/>
            <a:ext cx="8431200" cy="4829040"/>
            <a:chOff x="371520" y="1657440"/>
            <a:chExt cx="8431200" cy="4829040"/>
          </a:xfrm>
        </p:grpSpPr>
        <p:pic>
          <p:nvPicPr>
            <p:cNvPr id="32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371520" y="1657440"/>
              <a:ext cx="8431200" cy="48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457200" y="18828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Monetary policy to effect investment and interest rates.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Higher interest rate lead to lower investment spending and Vice Versa.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Higher money supply leads to lower interest rates, these lower interest rates lead to increase in I which has multiplier effects on AD.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In higher price levels the quantity of money demanded is greater given a fixed supply schedule a higher price level must lead to higher interest rates. Because interest rates discourage investment money supply demanded is lower.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06:53Z</dcterms:created>
  <dc:creator>sth_user</dc:creator>
  <dc:description/>
  <dc:language>en-US</dc:language>
  <cp:lastModifiedBy>HP Authorized Customer</cp:lastModifiedBy>
  <dcterms:modified xsi:type="dcterms:W3CDTF">2009-01-27T22:08:21Z</dcterms:modified>
  <cp:revision>11</cp:revision>
  <dc:subject/>
  <dc:title>Unit 7</dc:title>
</cp:coreProperties>
</file>